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0BC-23C8-4F59-A120-27FFD93D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819-C58C-40BF-AEAE-904B8A18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505-280A-49F0-9200-5DC1496C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061-C113-424E-B9D1-AD17F7AA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B10-4AE3-48C7-84AB-80355522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4F5-2C56-4EE9-81B5-B9996464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AA8-5FC2-4E61-A9F2-FDEC70E9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987-CC7A-4BDD-B454-1E54338F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800-4963-4045-B218-80DFC91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54E-31C4-4E0A-8DB7-FC6D65F1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578-4942-42AE-8082-FC0A64F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2CC-079A-41BC-BCAC-06552913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FA2F-D102-4366-933A-6323A3B908E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3 Za svedkov spásy, Pan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svedkov spásy, Pan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láskavo nás zve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kôr, než dielo doko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ľud mať pri ňom chc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tvojej láske vzácnu zv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končín sveta máme nie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žehnaj sejbu v časn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moci  tvoj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pracovať a dielo dokon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ám si z vôle Otcov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na kríž, Kriste, ši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ukázal si k obnov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er cesty, žitia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nás tou cestou kríža ve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ktorej v svete spásy ni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j dobrý pomôž bojo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ieru v teba zacho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do konca, tam v sláve u Ot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, Pane, uč vždy pamä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tvoja božská moc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vo tme svetlo zažín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emôcť smrti n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u mocou svojho vzkries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splníš nádej spasenia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láva ti na výs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život nový v rad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dať chceš nám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z lásky, Pane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stane už utrp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zlo sa pom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 zástupmi vykúpen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e s Pánom bu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pravme sa na ten deň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5:54:47Z</dcterms:modified>
  <cp:revision>47</cp:revision>
  <dc:subject/>
  <dc:title>Je veľký náš Pán, on slávy je Kráľ Nech do všetkých strán  spev vrúcnych znie chvál.</dc:title>
</cp:coreProperties>
</file>